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A23-2C63-4644-8A23-CE601709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2EC-5546-49AD-B8B4-F1C1D6D5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AAA-EB69-4145-9999-9274AFA7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37F-6046-4ED6-B580-8926B15B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3467-D315-40AB-B534-4A4EA074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1984-26C6-4EE6-BE41-DB929EFB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779B-B2DA-458A-A368-9F2D8149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04AF-AC94-4A55-B3C8-1BFD8B74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1C1D-4847-4CF2-96B1-ED6A373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1AB4-C345-4734-A5BB-E129374E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41E0-C08E-44E6-B586-3E3A24C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A59-4B23-4289-99B4-26F6A33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16FF-3680-4C50-BB4F-F6BC0C3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FAE9-5BE9-40BB-AB0D-2553BEC2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34F-AD16-4421-8F27-414BB3C2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7615-9245-41CB-B4F1-45C3284F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4761-C3F8-49BB-93E6-8767AD71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883-43BC-4932-B6E3-C53E71B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25E-47F3-46B9-B698-26F2F29C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37F-24DF-436B-BE4D-C8C05B3B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318-F9A3-4F3E-A0B2-86217DA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E6F-9D32-49FC-A485-6F33EFD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C84-A61C-4F31-861B-BC517DF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807-6793-488E-919B-411A284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8BD-F0F8-4A04-AA20-5FD8F293824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215-3562-4E87-A6B8-E15BB75B2D44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572"/>
                </a:solidFill>
                <a:uFillTx/>
                <a:latin typeface="Arial Narrow"/>
                <a:ea typeface="Times New Roman"/>
              </a:rPr>
              <a:t>Annual Bible Team Quiz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HIS WEDNESDAY 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21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 Narrow"/>
              </a:rPr>
              <a:t>ST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JULY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@ 7.30PM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ISTER YOUR TEAM TODAY - $10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04:13:54Z</dcterms:created>
  <dc:creator>John White</dc:creator>
  <dc:description/>
  <dc:language>en-US</dc:language>
  <cp:lastModifiedBy>John White</cp:lastModifiedBy>
  <dcterms:modified xsi:type="dcterms:W3CDTF">2014-03-25T23:07:59Z</dcterms:modified>
  <cp:revision>12</cp:revision>
  <dc:subject/>
  <dc:title>Bible Quiz Mark’s Gospel</dc:title>
</cp:coreProperties>
</file>